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3FE-A010-44A5-874A-C3D7AC5A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97A-A219-4FCD-A497-E11A8E31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AC4-0485-4D43-9E2D-939CFEE5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570-BCA9-420E-B47B-440FE9D2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25C-16AA-48C8-B258-D1E5FA0E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C74-BA76-4474-A5C3-E1CAA0E8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903-CD55-455B-B637-135987EC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F66-37D7-434B-8328-30A8994F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9BB-168D-4EEA-9291-A889683B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09B-F656-4EE2-9792-ABCDF0AD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392-15D6-4947-9543-5263D1E0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BA9-F411-4A0D-9BB3-A7A25CAE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B49D-EF0D-4D22-A724-DD4B69530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History 1918-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e and Fall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Jake Latini, Luke Marcheski and Isabelle Pil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18-19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8: Czar Nicholas II and his family where mur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soon became the Union of Soviet Scolastic Republic(USSR or the Soviet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War between the Red Army and the White Russ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24-1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4: Lenin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9: Stalin became the dictator of the 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9: September- USSR occupied Poland after Germany invaded                                November- USSR and Finland battle for land in the Winter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0: February: The Winter War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45-19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: Berlin surrenders to the 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: The USA bombed Hiroshima and Nagaski which ended 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lin dies and is taken over by Nikita Khrushch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Union launches “Sputni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1-196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1-Yuri Gagarin becomes the first astronaut. The Soviet Union builds a wall between East and West Berli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-The Cuban Missile Cri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4-Khrushchev was replaced by Leonid Brezhnev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5-19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-The Soviet Union backs North Vietnam against the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0-The USSR loses to the US in the hockey Olympics 4 to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5-Mikhail Gorbachev becomes a leader of the Soviet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The nuclear accident in Chernoby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6-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44:31Z</dcterms:created>
  <dc:creator> </dc:creator>
  <dc:description/>
  <dc:language>en-US</dc:language>
  <cp:lastModifiedBy> </cp:lastModifiedBy>
  <dcterms:modified xsi:type="dcterms:W3CDTF">2010-12-14T16:08:38Z</dcterms:modified>
  <cp:revision>2</cp:revision>
  <dc:subject/>
  <dc:title>Russian History 1918-2000</dc:title>
</cp:coreProperties>
</file>